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784-1FF6-46A3-9C00-04C1CAC6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AC5-E5CE-4D3B-BDE2-1D47CDA4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642-B31A-4707-BA0A-D6E1700B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D57-8428-4A4A-AEEE-9040FF93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8416-E07F-4734-88DB-10228C68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75A7-161F-44C4-8516-9FEA3AF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3EE6-4423-42F7-8E72-6099274C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582-5E46-4A8D-BE8F-F8703F9B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2859-EC34-4BA0-BF20-87131260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1B03-EE7D-4EF9-8FBD-593BA29E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3E45-8FCC-4BFF-AF8D-B09714B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905-4746-4936-A491-85BF881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E66E-3EAC-4813-A48B-E9CE4E2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7E89-1767-4109-8A06-50A84B2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5521-3B48-4809-90CB-79186C5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3E7D-BA66-4E26-A67A-CEC0CF54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43E-413A-4C57-AC59-2E1F911F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339-CBF5-4E96-A65B-802ED49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095-2505-4176-9C4B-C762D88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A9C-A3B7-4B59-9666-67D239A5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941-8D24-4C0F-9511-2F6744FA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755-AF32-4206-B3E2-CDAFD83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719-1A4C-4B71-AC95-FB89FF13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046-608C-4779-803A-F1443FF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0C1B-2375-4490-96D8-CAA3F6A5A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F1A2-FD47-41F7-9A6B-88E8961DD8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Aim: How did Gladiator’s entertain the Romans?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L33Gladiator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Now:  Why do you think Gladiators were entertaining to the Roma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olosseu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otic animals hunts, gladiatorial combat, executions, brutal plays, battle recreations and possibly naval battles with alligators entertained the crow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ristians martyred still deb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as a social valve to control popu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naumachia"/>
          <p:cNvPicPr/>
          <p:nvPr/>
        </p:nvPicPr>
        <p:blipFill>
          <a:blip r:embed="rId1"/>
          <a:stretch/>
        </p:blipFill>
        <p:spPr>
          <a:xfrm>
            <a:off x="4686480" y="1752480"/>
            <a:ext cx="3962160" cy="411480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lion%2520and%2520christians"/>
          <p:cNvPicPr/>
          <p:nvPr/>
        </p:nvPicPr>
        <p:blipFill>
          <a:blip r:embed="rId1"/>
          <a:stretch/>
        </p:blipFill>
        <p:spPr>
          <a:xfrm>
            <a:off x="685800" y="990720"/>
            <a:ext cx="8077320" cy="495288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 Gladiator’s Lif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myth is that gladiators were only sl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were but they were criminals, debtors and those condemned to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ed according to one’s physical attributes or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6" descr="Ad%2520Bestias%25202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389124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Gladiat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e coliseum gladiators fought fir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rned about survival and wha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nist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do if you do not perform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condemned are killed, animals hunted and criminal f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diators fight again in late day but it is to the death n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8" descr="taormina171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95800"/>
          </a:xfrm>
          <a:prstGeom prst="rect">
            <a:avLst/>
          </a:prstGeom>
          <a:ln w="3816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Gladiato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ated gladiators could appeal for mercy but it was at the whim of the crow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 did not always come at the hands of one’s oppon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dressed as Roman gods would kill the loser in a variety of ways to add to the sensationalism of the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mbs down did not mean death. It meant to spare the gladiator and a thumb up meant to kill h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6" descr="birthd4"/>
          <p:cNvPicPr/>
          <p:nvPr/>
        </p:nvPicPr>
        <p:blipFill>
          <a:blip r:embed="rId1"/>
          <a:stretch/>
        </p:blipFill>
        <p:spPr>
          <a:xfrm>
            <a:off x="5029200" y="1828800"/>
            <a:ext cx="3581280" cy="411480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Jean-Leon_Gerome_Pollice_Verso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56236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ircus Maxim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outdoor arena that seated 200,000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d chariot r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iot teams had fans who followed and cheered for their t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by emperors to appease the poor with free bread and ad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6" descr="circus_maximus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11480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ircus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3520" y="990720"/>
            <a:ext cx="7924680" cy="5135400"/>
          </a:xfrm>
          <a:prstGeom prst="rect">
            <a:avLst/>
          </a:prstGeom>
          <a:ln w="3816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ircus Maxim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eror Nero raced several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essed no skill but people adored h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 behavior became irration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camels instead of hor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night 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gan killing those who beat hi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ared himself champion at every r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2" descr="circus"/>
          <p:cNvPicPr/>
          <p:nvPr/>
        </p:nvPicPr>
        <p:blipFill>
          <a:blip r:embed="rId1"/>
          <a:stretch/>
        </p:blipFill>
        <p:spPr>
          <a:xfrm>
            <a:off x="4648320" y="1828800"/>
            <a:ext cx="4267080" cy="373392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olosseum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t by Emperor Vespasian and Titus 70-80 A.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ted 45,000, had two large restroom areas, covered area, numbered seating based on class, and had supporting facilities near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ngest games were 123 days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2" descr="Colosse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828800"/>
            <a:ext cx="4038480" cy="4267080"/>
          </a:xfrm>
          <a:prstGeom prst="rect">
            <a:avLst/>
          </a:prstGeom>
          <a:ln w="57240">
            <a:solidFill>
              <a:srgbClr val="cc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5:45:47Z</dcterms:created>
  <dc:creator>Corpus Christi</dc:creator>
  <dc:description/>
  <dc:language>en-US</dc:language>
  <cp:lastModifiedBy>NYCDOE</cp:lastModifiedBy>
  <dcterms:modified xsi:type="dcterms:W3CDTF">2012-11-15T16:36:49Z</dcterms:modified>
  <cp:revision>16</cp:revision>
  <dc:subject/>
  <dc:title>The Roman Gladiators</dc:title>
</cp:coreProperties>
</file>